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DA7D-5F95-4A34-895E-D65A9904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C97-53B9-4F77-A277-4F90460E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8471-93B0-447B-BEB9-D69C962B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130-9ED4-4F16-97F2-D48BCC72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5C3A-3E95-401D-A2C9-2F59A275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AEEC-0262-4DD5-901E-A8F62B29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73E2-B261-41EF-A6B6-B2FCACF6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374A-3654-412F-BE3A-0F80D5A1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0D92-8FDB-412A-A244-7A28568F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0767-D58B-4606-893B-2D943263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96A0-236C-44A7-BFB1-FE4155AF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593-FC9C-4F84-9F41-32BDDE97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297C-4620-4DD0-A627-4D5CEA10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9A1A-2872-4E53-8D37-DD889CB4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2C55-C7E4-4E0C-A568-712F49F7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0AEB-7892-4E4E-AA05-8C7127C2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CCDF-806F-40D3-8B45-E468130B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8AD-270F-4A32-B946-2BBF1F0E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E86-9482-46CA-AB8B-B1DD8E7F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C251-1A6C-4793-88E9-7A8FDF90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0E59-ED50-4057-BB21-41C14AAE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338-DFF4-4F05-92A6-1C4F0E70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4C96-5F17-4FCF-96AF-8E95F9E5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6866-03F7-483E-8307-F199D7ED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94B8-9EA0-419D-97A0-C473F339A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0AC8-CFF3-4D64-9F3D-41C9E3A1ED0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十一章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管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事考核的方法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物比较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素分析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量考核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综合考评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考试评议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三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培训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员工培训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战略性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以致用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人施教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内容结构合理化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员工教育培训的内容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技术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高级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员工培训的方法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务转换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研究讨论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职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校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四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员激励机制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激励是指挖掘人的潜力，充分调动人的积极性。在现代公司管理制度中，应该重视对职工的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公司的激励手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种是物质激励，另一种是精神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部门在采取激励措施时还必须注意以下几点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将物质激励和精神激励相结合，采用恰当的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组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不同时期、不同环境条件下，对不同的员工要区别对待，灵活激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措施要公正，要以客观事实为依据，恰如其分地进行激励，对公司的每一个员工都要一视同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五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劳动工资管理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的劳动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劳动分工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劳动协作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额定编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一节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概述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工资福利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员工的劳动报酬分两部分，一部分是直接的金钱报酬，包括工资、奖金、津贴；另一部分是间接的报酬，也就是职工的福利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280" y="404280"/>
            <a:ext cx="820908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复习思考题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力资源管理的主要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人力资源管理应遵循哪些原则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事考核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员工培训的基本原则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员工培训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有哪几种类型？保险公司在采取激励机制时应注意哪些问题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劳动管理的主要内容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力资源管理的概念与任务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的基本任务是根据保险公司发展战略的要求，通过有计划地对人力资源进行合理配置，加强公司员工的教育培训和人力资源的开发，推动整个保险公司各项工作的开展，确保保险公司战略目标的实现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人力资源管理的内容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规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招聘、选择和人事安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结构的合理配置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教育、培训和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工作评价和考核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事业生涯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资福利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力资源管理的原则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时须遵循以下几个原则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协调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任人唯贤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能位相宜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群体合力和互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态适应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四、加强人力资源管理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提高保险公司的劳动效率和经济效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保险公司职工的全面发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有利于建立现代保险公司制度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二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事绩效考核的功能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础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导向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督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人事绩效考核的内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的主要内容有：德、能、勤、绩四个方面，以绩为重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6:08:57Z</dcterms:modified>
  <cp:revision>55</cp:revision>
  <dc:subject/>
  <dc:title>没有幻灯片标题</dc:title>
</cp:coreProperties>
</file>